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CFC-DCB7-482F-BD28-BDFA4D32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53F-F299-4A9F-A25D-08E69168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39F-F9B0-4B53-A260-ED3DF1B0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3B3-2E18-469D-A2DE-973157E3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26AD-B6C1-44C2-8BCF-9B320158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41BE-72FD-48CE-A826-7F900875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A730-FE4E-4AE0-B9B1-1B418675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A2E5-2481-4D82-A49B-A294A447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D1E1-3161-4CE8-8ED0-460C8400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7CC5-0992-4985-A277-CF0BAD27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3379-25DB-4CD8-AC7B-AE88AD05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6C8-99AB-4D71-8EE0-32679FFA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1840-2ADD-4F1B-A506-9EF31FB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9044-41A5-4EFA-8121-ABCB47A8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3182-B286-4AD9-88E2-B27CE18A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114A-800A-4F93-9140-D2CE5986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A023-704A-46E0-A8CF-61318BFC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418-B94C-4F1F-94B0-4DDF76FE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B6A-665A-437D-88DF-2BED1116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DFF-DB11-49C1-8BEE-699A6FB2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158-74BE-485D-9B4B-4F8392D5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187-27C1-4BE2-9342-4B85EA0C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882-ED9F-46C0-B67D-8F4DE12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7AD-2D97-40F6-8756-3C1CBBC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1201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51202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1203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1204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1205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51206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51207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51208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F2BD-5BB6-4D68-8CD3-90F04400308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Picture 1" descr="new transparent feb2021 "/>
          <p:cNvPicPr/>
          <p:nvPr/>
        </p:nvPicPr>
        <p:blipFill>
          <a:blip r:embed="rId2"/>
          <a:stretch/>
        </p:blipFill>
        <p:spPr>
          <a:xfrm>
            <a:off x="8172360" y="6093000"/>
            <a:ext cx="774720" cy="64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2225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Freeform 52226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2227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2228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2229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2230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2231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2232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841A-FC87-4D98-BA07-74CB7D7106E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honics Trai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ikolas J.Cake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Overview and ai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Text Placeholder 11266" descr=""/>
          <p:cNvPicPr/>
          <p:nvPr/>
        </p:nvPicPr>
        <p:blipFill>
          <a:blip r:embed="rId1"/>
          <a:stretch/>
        </p:blipFill>
        <p:spPr>
          <a:xfrm>
            <a:off x="447840" y="1542960"/>
            <a:ext cx="82483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solidFill>
            <a:srgbClr val="5b5b89"/>
          </a:solidFill>
          <a:ln w="12600">
            <a:solidFill>
              <a:srgbClr val="414163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In the beginning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Text Placeholder 16386" descr=""/>
          <p:cNvPicPr/>
          <p:nvPr/>
        </p:nvPicPr>
        <p:blipFill>
          <a:blip r:embed="rId1"/>
          <a:stretch/>
        </p:blipFill>
        <p:spPr>
          <a:xfrm>
            <a:off x="447840" y="1258920"/>
            <a:ext cx="824832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Short vowel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is my nightmare.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         e               i           o           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         o               a           u          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           u               e          i          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at ees my name? My name ees Neeeek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:( :*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Games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U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 listening gam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run to the right card,hit the card teacher says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nd the vowels as a tea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tar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ring the sound is very important and will help them later when they fully recognise the letter/sound.  Later when they can recognise you can add words to the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6480">
            <a:solidFill>
              <a:srgbClr val="5b5b8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CvC</a:t>
            </a: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 vowel word</a:t>
            </a: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Text Placeholder 55298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6048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Final consonant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Text Placeholder 54274" descr=""/>
          <p:cNvPicPr/>
          <p:nvPr/>
        </p:nvPicPr>
        <p:blipFill>
          <a:blip r:embed="rId1"/>
          <a:stretch/>
        </p:blipFill>
        <p:spPr>
          <a:xfrm>
            <a:off x="457200" y="1217520"/>
            <a:ext cx="8229600" cy="545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5b5b8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Arial"/>
              </a:rPr>
              <a:t>Final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Text Placeholder 19458" descr=""/>
          <p:cNvPicPr/>
          <p:nvPr/>
        </p:nvPicPr>
        <p:blipFill>
          <a:blip r:embed="rId1"/>
          <a:stretch/>
        </p:blipFill>
        <p:spPr>
          <a:xfrm>
            <a:off x="457200" y="140652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6480">
            <a:solidFill>
              <a:srgbClr val="5b5b8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objecti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We don’t need the kids to be able to understand every word or know the meaning, we just want them to have confidence to try to read and pronou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the course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teach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should have a clearer understanding of how each letter sounds and how they can use them to say simple 2,3 or 4 letter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y the demo we want them to be able to identify and create the right combination of letters  to make the sounds suggested to them.. I say     “h-o-t” and they can find those letters and put them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Demo pl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is is how I would construct a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basic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onics de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(actually most phonics de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) Intros- My name is A-a-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 feel H-h-Hap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) Warm up- Alphabet board relay 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3) S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4) Dr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) Team sort the sounds game(find vowel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6) Team words under sounds on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7) Team arrange the alphabet cards on floor in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8) Students in pairs come out and make words from sounds teacher s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6:30:00Z</dcterms:created>
  <dc:creator>微软中国</dc:creator>
  <dc:description/>
  <dc:language>en-US</dc:language>
  <cp:lastModifiedBy>firea</cp:lastModifiedBy>
  <dcterms:modified xsi:type="dcterms:W3CDTF">2021-02-24T14:09:35Z</dcterms:modified>
  <cp:revision>48</cp:revision>
  <dc:subject/>
  <dc:title>New Phonics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984</vt:lpwstr>
  </property>
</Properties>
</file>